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6.png" ContentType="image/png"/>
  <Override PartName="/ppt/media/image31.png" ContentType="image/png"/>
  <Override PartName="/ppt/media/image35.jpeg" ContentType="image/jpeg"/>
  <Override PartName="/ppt/media/image1.jpeg" ContentType="image/jpeg"/>
  <Override PartName="/ppt/media/image7.png" ContentType="image/png"/>
  <Override PartName="/ppt/media/image34.jpeg" ContentType="image/jpeg"/>
  <Override PartName="/ppt/media/image11.jpeg" ContentType="image/jpeg"/>
  <Override PartName="/ppt/media/image36.jpeg" ContentType="image/jpeg"/>
  <Override PartName="/ppt/media/image30.jpeg" ContentType="image/jpeg"/>
  <Override PartName="/ppt/media/image3.jpeg" ContentType="image/jpeg"/>
  <Override PartName="/ppt/media/image9.png" ContentType="image/png"/>
  <Override PartName="/ppt/media/image33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5B12-33D8-4BBE-A3E7-BAD3BC179C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90B7-124E-4D12-B0A8-33E3CB26F0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4279-15D5-4D90-A205-FB1A146123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CBD8-7662-4CE5-9034-093BCE72A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72FF-AA24-48BC-92BC-8F88D045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C396-841D-454D-B83E-8DB8F0BF5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B352-A10A-41F3-8E52-6DA53D244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6C94-0CCB-44BA-97B2-1B810EE9B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F6C6-CE8B-4DBF-BE5B-6C40EE0D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DA00-F9DD-4E8F-A38C-319CB340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F892-3ACF-41CD-B0E9-0D994561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D69A-B200-4890-A36A-B66DBC84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3D67-409A-4336-8090-A1B43A21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B2A7-FD3B-4F1A-B690-C0F58E0B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C76C-C799-4019-8755-1F2C8F0D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8845-4F01-4926-A527-BBE68A79A4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9200" y="1785600"/>
            <a:ext cx="87044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990000"/>
                </a:solidFill>
                <a:latin typeface="Mistral"/>
              </a:rPr>
              <a:t>70-летию</a:t>
            </a:r>
            <a:br>
              <a:rPr sz="8800"/>
            </a:br>
            <a:r>
              <a:rPr b="0" lang="ru-RU" sz="8800" spc="-1" strike="noStrike">
                <a:solidFill>
                  <a:srgbClr val="990000"/>
                </a:solidFill>
                <a:latin typeface="Mistral"/>
              </a:rPr>
              <a:t> Победы посвящается…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shapka1"/>
          <p:cNvPicPr/>
          <p:nvPr/>
        </p:nvPicPr>
        <p:blipFill>
          <a:blip r:embed="rId1"/>
          <a:stretch/>
        </p:blipFill>
        <p:spPr>
          <a:xfrm>
            <a:off x="6566040" y="920880"/>
            <a:ext cx="2309760" cy="3297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79912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29 июня 1941 года (8-й день войны). Сведения с фронта подтверждают, что русские всюду сражаются до последнего человека... Упорное сопротивление русских заставляет вести бой по всем правилам наших боевых уставов, хотя на Западе мы могли позволить себе известные вольности…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1956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79280" y="158760"/>
            <a:ext cx="8713800" cy="6567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50920" y="907920"/>
            <a:ext cx="84247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10 августа 1941 года (50-й день войн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..На центральном участке фронта создалась невыгодная для нас обстановка, а на северном фланге мы терпим большие потери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1942_17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-85680"/>
            <a:ext cx="9144000" cy="6943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11 августа 1941 года (51 – й день войны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..Общая обстановка всё очевиднее показывает, что колосс – Россия… был нами недооценён.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94920" y="593280"/>
            <a:ext cx="8209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йна… От Бреста до Москвы 1000 километров, от Москвы до Берлина — 1600. Итого 2600 километр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если считать по прямой. Так мало, не правда ли? 2600 километров. Поездом — четверо суток, самолетом — четыре часа, а перебежками по-пластунски — четыре долгих го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Война – это 4 года,</a:t>
            </a:r>
            <a:br>
              <a:rPr sz="4500"/>
            </a:b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это 1 418 бессонных дней и ночей, </a:t>
            </a:r>
            <a:br>
              <a:rPr sz="4500"/>
            </a:b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это 20 миллионов погибших русских людей, это значит  22 человека на каждые 2 метра земли, </a:t>
            </a:r>
            <a:br>
              <a:rPr sz="4500"/>
            </a:br>
            <a:r>
              <a:rPr b="0" lang="ru-RU" sz="4500" spc="-1" strike="noStrike">
                <a:solidFill>
                  <a:srgbClr val="000000"/>
                </a:solidFill>
                <a:latin typeface="Arial"/>
              </a:rPr>
              <a:t>это значит 13 человек в каждую минуту.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8425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йна… Это бесстрашие защитников Бреста, это 900 дней блокадного Ленинграда, это клятва панфиловцев: «Ни шагу назад, за нами Москва!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добытая огнем и кровью победа под Сталинградом, это подвиг героев Курской дуги, это штурм Берлина, это память сердца всего наро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локада Ленингра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000" y="1386000"/>
            <a:ext cx="78483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Да, мы не скроем: в эти д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Мы ели землю, клей, ремни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о, съев похлёбку из ремне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Вставал к станку упрямый мастер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тобы точить орудий част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Необходимые войн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2" descr="Мы помним - 27 января, День полного снятия блокады Ленинграда - Развлекательный портал &quot;Флаг в руки&quot; - Флаг в Руки"/>
          <p:cNvPicPr/>
          <p:nvPr/>
        </p:nvPicPr>
        <p:blipFill>
          <a:blip r:embed="rId1"/>
          <a:stretch/>
        </p:blipFill>
        <p:spPr>
          <a:xfrm>
            <a:off x="642960" y="428760"/>
            <a:ext cx="3714840" cy="2711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4" descr="Героические страницы российской истории"/>
          <p:cNvPicPr/>
          <p:nvPr/>
        </p:nvPicPr>
        <p:blipFill>
          <a:blip r:embed="rId2"/>
          <a:stretch/>
        </p:blipFill>
        <p:spPr>
          <a:xfrm>
            <a:off x="4572000" y="357120"/>
            <a:ext cx="4000680" cy="2954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Блокадный Ленинград"/>
          <p:cNvPicPr/>
          <p:nvPr/>
        </p:nvPicPr>
        <p:blipFill>
          <a:blip r:embed="rId3"/>
          <a:stretch/>
        </p:blipFill>
        <p:spPr>
          <a:xfrm>
            <a:off x="1071720" y="2928960"/>
            <a:ext cx="2651040" cy="3701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8" descr="Блокада Ленинграда в фотографиях"/>
          <p:cNvPicPr/>
          <p:nvPr/>
        </p:nvPicPr>
        <p:blipFill>
          <a:blip r:embed="rId4"/>
          <a:stretch/>
        </p:blipFill>
        <p:spPr>
          <a:xfrm>
            <a:off x="4214880" y="3357720"/>
            <a:ext cx="4303800" cy="3136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94920" y="593280"/>
            <a:ext cx="84596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ледним мирным днём 1941 года была суббота. После обычной трудовой недели миллионы советских людей отправились отдыхать. Тишину наступившей ночи, по-летнему тёплой, благоухающей, во многих городах и сёлах нарушали счастливые голоса молодых людей, праздновавших своё вступление во взрослую жизн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3.wav" descr=""/>
          <p:cNvPicPr/>
          <p:nvPr/>
        </p:nvPicPr>
        <p:blipFill>
          <a:blip r:embed="rId1"/>
          <a:stretch/>
        </p:blipFill>
        <p:spPr>
          <a:xfrm>
            <a:off x="853272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611280" y="907920"/>
            <a:ext cx="813744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 войны в город по множеству железнодорожных линий и веток каждый день прибывала не одна тысяча вагонов со всякими грузами. Линии передач несли электрическую энергию со станций, расположенных на Волхове, Свири, в верховьях Невы. Теперь все эти пути были перехвачены врагом. Огромный поток грузов сразу исся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довольствие и боеприпасы стали доставлять по воздуху, но это была капля в мо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539640" y="33336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Calibri"/>
              </a:rPr>
              <a:t>Война, война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3238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3.wav" descr=""/>
          <p:cNvPicPr/>
          <p:nvPr/>
        </p:nvPicPr>
        <p:blipFill>
          <a:blip r:embed="rId1"/>
          <a:stretch/>
        </p:blipFill>
        <p:spPr>
          <a:xfrm>
            <a:off x="853272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179280" y="907920"/>
            <a:ext cx="856944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или создать новую линию снабжения через Ладожское озеро.Существовал и путь по воде – узкая полоса между вражескими армиями. Прежде этот путь мало использовался.  Ладожское озеро суровое и бурное, судов, пригодных для плаванья по нему было немного. Баржи водили по каналам, в обход озера, но теперь и каналы попали в руки врага. Оставалась Ладога.  Осенью 1941 года начались перевозки через озеро. Потом по нему пролегла знаменитая ледовая трасса – Дорога жизни, которая спасла Ленинград. Но в начале и перевозки по озеру давали ничтожно мало в сравнении с тем, сколько было ну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3238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lbertus Extra Bold"/>
              </a:rPr>
              <a:t>«Дорога жизн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0" y="1413000"/>
            <a:ext cx="4176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набжение города и войск удалось наладить по «Дороге жизни» (через Ладожское оз.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7" descr="Кольцо смерти и Дорога жизни &quot; Кумертауское Время"/>
          <p:cNvPicPr/>
          <p:nvPr/>
        </p:nvPicPr>
        <p:blipFill>
          <a:blip r:embed="rId1"/>
          <a:stretch/>
        </p:blipFill>
        <p:spPr>
          <a:xfrm>
            <a:off x="928800" y="1000080"/>
            <a:ext cx="3500280" cy="3121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Без заголовка 1423"/>
          <p:cNvPicPr/>
          <p:nvPr/>
        </p:nvPicPr>
        <p:blipFill>
          <a:blip r:embed="rId2"/>
          <a:stretch/>
        </p:blipFill>
        <p:spPr>
          <a:xfrm>
            <a:off x="357120" y="3571920"/>
            <a:ext cx="4579920" cy="29304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468360" y="333360"/>
            <a:ext cx="7958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до было возить больше, много больше, возить быстрее, много быстре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3 декабря через озеро перевезли 700 тонн продуктов, 24-го – 800 тонн. Запасов в городе не оставалось. То, что привозили из-за Ладоги, сразу поступало на хлебозаводы.И все-таки вечером 24 декабря военный совет фронта решил увеличить поек всем ленинградцам: рабочим на 100 граммов в день, остальным - на 75 граммов. Многие женщины и дети плакали от радости. Еще 75 граммов хлеба, в общем - то крохотный кусочек, который легко сжать в кулаке. В блокадную пору он был бесценен. Он давал людям надежду на спасение от голодной смерти, на то, что их близкие и они сами будут ж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274680"/>
            <a:ext cx="79200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лач   матерей  по  погибши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21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Object 4"/>
          <p:cNvGraphicFramePr/>
          <p:nvPr/>
        </p:nvGraphicFramePr>
        <p:xfrm>
          <a:off x="8748720" y="5877000"/>
          <a:ext cx="39528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748720" y="5877000"/>
                    <a:ext cx="3952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8000" y="549000"/>
            <a:ext cx="533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итва за Моск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468360" y="2133720"/>
            <a:ext cx="802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ятого и шестого декабря 1941 года уже последовало мощное контрнаступление советских войск. Враг отошел от Москвы на 100 – 250 километр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 спиной Москва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олица мир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 неё, в огне лихих годин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тали насмерть братья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ын башкира, русский , и татарин, и грузин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, Москв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ы сердце всей Росси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 очей твоих струиться св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Живы мы, хоть нас свинцом коси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з тебя, Моск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м жизни нет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итва за Москв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1" descr="Отморожение"/>
          <p:cNvPicPr/>
          <p:nvPr/>
        </p:nvPicPr>
        <p:blipFill>
          <a:blip r:embed="rId1"/>
          <a:stretch/>
        </p:blipFill>
        <p:spPr>
          <a:xfrm>
            <a:off x="714240" y="1357200"/>
            <a:ext cx="7620120" cy="473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, всё-таки наступил в войне переломный момент и началось освобождение оккупированных территорий. Очистив от фашистов территорию нашей страны, наши воины освободили от фашистского ига народы Европы.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чество в неоплаченном долгу перед теми миллионами людей, которые погибли, защищая родину от порабощения, неволи, фашизма, грозившего уничтожить все славянские народ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талинградская би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979640" y="62373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линградская</a:t>
            </a:r>
            <a:r>
              <a:rPr b="1" lang="ru-RU" sz="2400" spc="-1" strike="noStrike">
                <a:solidFill>
                  <a:srgbClr val="05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нор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09.avi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68360" y="1268280"/>
            <a:ext cx="7920000" cy="4897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F:\Новая папка (4)\2007_06_22_08_44_40_a1fd7e74437b5ad9dc504ed2628ffff5.jpg"/>
          <p:cNvPicPr/>
          <p:nvPr/>
        </p:nvPicPr>
        <p:blipFill>
          <a:blip r:embed="rId1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0"/>
          <p:cNvSpPr/>
          <p:nvPr/>
        </p:nvSpPr>
        <p:spPr>
          <a:xfrm>
            <a:off x="5254560" y="476280"/>
            <a:ext cx="388944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Arial"/>
              </a:rPr>
              <a:t>Войн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2 июн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овно в 4 час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иев бомбил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ъяви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что началас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ойн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урская би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10.avi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5640" y="907920"/>
            <a:ext cx="7488360" cy="5618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За годы войны фашисты уничтожили 1710 советских городов и более 70 тысяч сел и деревень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Картинка 5 из 7138"/>
          <p:cNvPicPr/>
          <p:nvPr/>
        </p:nvPicPr>
        <p:blipFill>
          <a:blip r:embed="rId1"/>
          <a:stretch/>
        </p:blipFill>
        <p:spPr>
          <a:xfrm>
            <a:off x="2124000" y="0"/>
            <a:ext cx="445788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g42"/>
          <p:cNvPicPr/>
          <p:nvPr/>
        </p:nvPicPr>
        <p:blipFill>
          <a:blip r:embed="rId1"/>
          <a:stretch/>
        </p:blipFill>
        <p:spPr>
          <a:xfrm>
            <a:off x="0" y="0"/>
            <a:ext cx="494352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21413"/>
          <p:cNvPicPr/>
          <p:nvPr/>
        </p:nvPicPr>
        <p:blipFill>
          <a:blip r:embed="rId2"/>
          <a:stretch/>
        </p:blipFill>
        <p:spPr>
          <a:xfrm>
            <a:off x="1511280" y="333360"/>
            <a:ext cx="7632720" cy="5722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55"/>
          <p:cNvPicPr/>
          <p:nvPr/>
        </p:nvPicPr>
        <p:blipFill>
          <a:blip r:embed="rId3"/>
          <a:stretch/>
        </p:blipFill>
        <p:spPr>
          <a:xfrm>
            <a:off x="179280" y="378000"/>
            <a:ext cx="896472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i0008r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рубеже весны четвёр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аграду за года трево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дыму и прахе распростёрт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рлин лежал у наших ног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умолкает гром оруд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шует пламя в дымной мг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говорят друг другу люди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справедливость на Земл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итва за Берл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1" descr="i0006rp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i0012rp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08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i0006rp"/>
          <p:cNvPicPr/>
          <p:nvPr/>
        </p:nvPicPr>
        <p:blipFill>
          <a:blip r:embed="rId1"/>
          <a:stretch/>
        </p:blipFill>
        <p:spPr>
          <a:xfrm>
            <a:off x="0" y="0"/>
            <a:ext cx="9144000" cy="7095960"/>
          </a:xfrm>
          <a:prstGeom prst="rect">
            <a:avLst/>
          </a:prstGeom>
          <a:ln w="0">
            <a:noFill/>
          </a:ln>
        </p:spPr>
      </p:pic>
      <p:pic>
        <p:nvPicPr>
          <p:cNvPr id="123" name="levitan3.mp3" descr=""/>
          <p:cNvPicPr/>
          <p:nvPr/>
        </p:nvPicPr>
        <p:blipFill>
          <a:blip r:embed="rId2"/>
          <a:stretch/>
        </p:blipFill>
        <p:spPr>
          <a:xfrm>
            <a:off x="8244000" y="33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 advTm="71000">
    <p:fade/>
  </p:transition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43072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ПУСТЬ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ПОКОЛЕНИЯ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400" spc="-1" strike="noStrike">
                <a:solidFill>
                  <a:srgbClr val="000000"/>
                </a:solidFill>
                <a:latin typeface="Arial"/>
              </a:rPr>
              <a:t>ЗНАЮТ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…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1816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611280" y="1268280"/>
            <a:ext cx="7619760" cy="5589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Администратор\Рабочий стол\война\войнай\Rodina_mat-.jpg"/>
          <p:cNvPicPr/>
          <p:nvPr/>
        </p:nvPicPr>
        <p:blipFill>
          <a:blip r:embed="rId1"/>
          <a:stretch/>
        </p:blipFill>
        <p:spPr>
          <a:xfrm>
            <a:off x="2484360" y="0"/>
            <a:ext cx="5040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годы войны было сожжено и разрушено 6 млн. зданий. Остались без крова над головой почти 25 млн. человек. Страна потеряла 30% национального богатст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 сколько людей погибло в концлагеря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тский  лагерь  Саласпил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0658"/>
          <p:cNvPicPr/>
          <p:nvPr/>
        </p:nvPicPr>
        <p:blipFill>
          <a:blip r:embed="rId1"/>
          <a:srcRect l="0" t="15427" r="0" b="16253"/>
          <a:stretch/>
        </p:blipFill>
        <p:spPr>
          <a:xfrm>
            <a:off x="0" y="1413000"/>
            <a:ext cx="914400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9"/>
          <p:cNvSpPr/>
          <p:nvPr/>
        </p:nvSpPr>
        <p:spPr>
          <a:xfrm>
            <a:off x="-252360" y="549360"/>
            <a:ext cx="96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4 июня 1945 г.  в Москве состоялся Парад Побе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6" descr="Картинка 3 из 21539"/>
          <p:cNvPicPr/>
          <p:nvPr/>
        </p:nvPicPr>
        <p:blipFill>
          <a:blip r:embed="rId1"/>
          <a:stretch/>
        </p:blipFill>
        <p:spPr>
          <a:xfrm>
            <a:off x="1403280" y="1197000"/>
            <a:ext cx="5616720" cy="5362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8" descr="Картинка 71 из 21539"/>
          <p:cNvPicPr/>
          <p:nvPr/>
        </p:nvPicPr>
        <p:blipFill>
          <a:blip r:embed="rId2"/>
          <a:stretch/>
        </p:blipFill>
        <p:spPr>
          <a:xfrm>
            <a:off x="755640" y="1125360"/>
            <a:ext cx="7885080" cy="54723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0" descr="Картинка 73 из 21539"/>
          <p:cNvPicPr/>
          <p:nvPr/>
        </p:nvPicPr>
        <p:blipFill>
          <a:blip r:embed="rId3"/>
          <a:stretch/>
        </p:blipFill>
        <p:spPr>
          <a:xfrm>
            <a:off x="684360" y="1125360"/>
            <a:ext cx="7777080" cy="5500800"/>
          </a:xfrm>
          <a:prstGeom prst="rect">
            <a:avLst/>
          </a:prstGeom>
          <a:ln w="0">
            <a:noFill/>
          </a:ln>
        </p:spPr>
      </p:pic>
    </p:spTree>
  </p:cSld>
  <p:transition spd="slow" advTm="236000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 мая мы отмечаем великий праздник – День Победы ,70 годовщину Победы советского народа в Великой вой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 горя и страха принесла война, но несмотря на голод, холод, разруху, наш народ победил. Он победил страшного врага, который поработил много государств и заставил их жить в страхе, народ , который победил  - фашизм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levitan3.mp3" descr=""/>
          <p:cNvPicPr/>
          <p:nvPr/>
        </p:nvPicPr>
        <p:blipFill>
          <a:blip r:embed="rId1"/>
          <a:stretch/>
        </p:blipFill>
        <p:spPr>
          <a:xfrm>
            <a:off x="39528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92" dur="indefinite" restart="never" nodeType="tmRoot">
          <p:childTnLst>
            <p:seq>
              <p:cTn id="93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43072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нь Поб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нь Победы - праздник всей страны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уховой оркестр играет марш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нь Победы - праздник седи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ших прадедов, дедов. Даже те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не видал войны,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её крылом задет был кажд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дравляем с Днём Победы мы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т день для всей России важны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20_big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428760" y="1214280"/>
            <a:ext cx="4033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евели чёрные крыль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вистел ураган свинц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о парни границу закры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На собственные сердц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Пам"/>
          <p:cNvPicPr/>
          <p:nvPr/>
        </p:nvPicPr>
        <p:blipFill>
          <a:blip r:embed="rId1"/>
          <a:stretch/>
        </p:blipFill>
        <p:spPr>
          <a:xfrm>
            <a:off x="4643280" y="0"/>
            <a:ext cx="3781440" cy="5113440"/>
          </a:xfrm>
          <a:prstGeom prst="rect">
            <a:avLst/>
          </a:prstGeom>
          <a:ln w="57240">
            <a:solidFill>
              <a:srgbClr val="a50021"/>
            </a:solidFill>
            <a:miter/>
          </a:ln>
        </p:spPr>
      </p:pic>
      <p:pic>
        <p:nvPicPr>
          <p:cNvPr id="57" name="Picture 6" descr="Каска"/>
          <p:cNvPicPr/>
          <p:nvPr/>
        </p:nvPicPr>
        <p:blipFill>
          <a:blip r:embed="rId2"/>
          <a:stretch/>
        </p:blipFill>
        <p:spPr>
          <a:xfrm>
            <a:off x="6407280" y="4781520"/>
            <a:ext cx="2736720" cy="2076480"/>
          </a:xfrm>
          <a:prstGeom prst="rect">
            <a:avLst/>
          </a:prstGeom>
          <a:ln w="57240">
            <a:solidFill>
              <a:srgbClr val="a50021"/>
            </a:solidFill>
            <a:miter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Брестская креп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брестская крепость"/>
          <p:cNvPicPr/>
          <p:nvPr/>
        </p:nvPicPr>
        <p:blipFill>
          <a:blip r:embed="rId1"/>
          <a:stretch/>
        </p:blipFill>
        <p:spPr>
          <a:xfrm>
            <a:off x="0" y="1125360"/>
            <a:ext cx="4633920" cy="5732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 – Брест. Я стою обожженны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Я бьюсь за солдатскую ч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 нету здесь, нету сраженны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десь только убитые 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з дневника начальника Генерального штаба сухопутных войск фашистской Германии генерал-полковника Гальд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4176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8"/>
          <p:cNvSpPr/>
          <p:nvPr/>
        </p:nvSpPr>
        <p:spPr>
          <a:xfrm>
            <a:off x="179280" y="4076640"/>
            <a:ext cx="8569440" cy="17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…24 июня 1941 года (3-й день войны). В общем-то, теперь стало ясно, что русские не думают об отступлении, а напротив, бросают все, что имеют в своём распоряжении, навстречу вклинившимся германским войскам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0T20:25:23Z</dcterms:created>
  <dc:creator>Alex</dc:creator>
  <dc:description/>
  <dc:language>en-US</dc:language>
  <cp:lastModifiedBy>Лада</cp:lastModifiedBy>
  <dcterms:modified xsi:type="dcterms:W3CDTF">2014-11-06T08:12:28Z</dcterms:modified>
  <cp:revision>36</cp:revision>
  <dc:subject/>
  <dc:title>65-летию Победы посвящается…</dc:title>
</cp:coreProperties>
</file>